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74E1-A985-41DC-932A-3352C89C7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44DC-4B97-4C5A-B23C-DE454B226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98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4-</a:t>
            </a:r>
            <a:fld id="{91420CA9-BCE0-4EB8-8C5B-B0DAE4D9BE3C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4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Alloc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069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llocation is the process of assigning indirect costs to cost obje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2999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our Purposes of Cost Alloc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provide information for economic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motivate managers and employe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justify costs or compute reimburs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measure income and assets for repor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external par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29 - 53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755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riteria for Guiding Cost Allocation Decis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79930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use and eff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based on the variable or variables that cause cost to b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nefits receiv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among the beneficiaries in proportion to the benefits each rece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irness or equ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in such a manner as to be “fair” or “reasonable” for both par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ility to b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based on who can best absorb th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30 - 53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hods of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ngle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to cost objects using a single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te = manufacturing overhead costs / labour hou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ual-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costs into cost variable and fixed cost poo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fixed costs as lump sums based on long-term us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variable costs based on a single variable cost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versus actual alloc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firms allocate at budgeted rates based on actual us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36 - 53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cating Support Departmen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4502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support costs directly to operating depart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ep-down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some of the work support departments do for each o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support costs to other support departments and operating departments in a pre-determined ord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iprocal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all of the work support departments do for each o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support costs among all departments using their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39 - 54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Approach to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324080"/>
            <a:ext cx="3192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ort Departmen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1324080"/>
            <a:ext cx="365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duction Department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10080" y="205740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chiner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444816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09880"/>
            <a:ext cx="2209680" cy="157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6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4524480"/>
            <a:ext cx="2209680" cy="157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116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5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743200" y="2590920"/>
            <a:ext cx="2666880" cy="2361960"/>
            <a:chOff x="2743200" y="2590920"/>
            <a:chExt cx="2666880" cy="2361960"/>
          </a:xfrm>
        </p:grpSpPr>
        <p:sp>
          <p:nvSpPr>
            <p:cNvPr id="70" name=""/>
            <p:cNvSpPr/>
            <p:nvPr/>
          </p:nvSpPr>
          <p:spPr>
            <a:xfrm>
              <a:off x="2743200" y="25909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43200" y="3048120"/>
              <a:ext cx="2666880" cy="1904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71800" y="2619360"/>
              <a:ext cx="1752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25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75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43200" y="3200400"/>
            <a:ext cx="2666880" cy="2362320"/>
            <a:chOff x="2743200" y="3200400"/>
            <a:chExt cx="2666880" cy="2362320"/>
          </a:xfrm>
        </p:grpSpPr>
        <p:sp>
          <p:nvSpPr>
            <p:cNvPr id="74" name=""/>
            <p:cNvSpPr/>
            <p:nvPr/>
          </p:nvSpPr>
          <p:spPr>
            <a:xfrm>
              <a:off x="2743200" y="55627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2743200" y="3200400"/>
              <a:ext cx="2590920" cy="1828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95480" y="4676760"/>
              <a:ext cx="1752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03,11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,889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410080" y="2009880"/>
            <a:ext cx="3733920" cy="4057560"/>
            <a:chOff x="5410080" y="2009880"/>
            <a:chExt cx="3733920" cy="4057560"/>
          </a:xfrm>
        </p:grpSpPr>
        <p:sp>
          <p:nvSpPr>
            <p:cNvPr id="78" name=""/>
            <p:cNvSpPr/>
            <p:nvPr/>
          </p:nvSpPr>
          <p:spPr>
            <a:xfrm>
              <a:off x="5410080" y="200988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28,11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28,11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10080" y="441972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87,889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87,889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96080" y="320040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96080" y="563868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410080" y="444816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10080" y="200988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chiner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ep-down Approach to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320" y="1324080"/>
            <a:ext cx="3192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ort Departmen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1324080"/>
            <a:ext cx="365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duction Department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2009880"/>
            <a:ext cx="2209680" cy="157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6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4114800"/>
            <a:ext cx="2209680" cy="21337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116,000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41 - 54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33520" y="2590920"/>
            <a:ext cx="4876560" cy="3657600"/>
            <a:chOff x="533520" y="2590920"/>
            <a:chExt cx="4876560" cy="3657600"/>
          </a:xfrm>
        </p:grpSpPr>
        <p:sp>
          <p:nvSpPr>
            <p:cNvPr id="91" name=""/>
            <p:cNvSpPr/>
            <p:nvPr/>
          </p:nvSpPr>
          <p:spPr>
            <a:xfrm>
              <a:off x="533520" y="4114800"/>
              <a:ext cx="220968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               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43200" y="25909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43200" y="3048120"/>
              <a:ext cx="2666880" cy="1904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71800" y="2619360"/>
              <a:ext cx="1752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8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0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8280" y="3581280"/>
              <a:ext cx="0" cy="53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33720" y="3657600"/>
              <a:ext cx="1752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743200" y="3200400"/>
            <a:ext cx="2666880" cy="2362320"/>
            <a:chOff x="2743200" y="3200400"/>
            <a:chExt cx="2666880" cy="2362320"/>
          </a:xfrm>
        </p:grpSpPr>
        <p:sp>
          <p:nvSpPr>
            <p:cNvPr id="98" name=""/>
            <p:cNvSpPr/>
            <p:nvPr/>
          </p:nvSpPr>
          <p:spPr>
            <a:xfrm>
              <a:off x="2743200" y="55627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2743200" y="3200400"/>
              <a:ext cx="2590920" cy="1828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95480" y="4676760"/>
              <a:ext cx="1752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09,778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6,22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410080" y="1962000"/>
            <a:ext cx="3505320" cy="4133880"/>
            <a:chOff x="5410080" y="1962000"/>
            <a:chExt cx="3505320" cy="4133880"/>
          </a:xfrm>
        </p:grpSpPr>
        <p:sp>
          <p:nvSpPr>
            <p:cNvPr id="102" name=""/>
            <p:cNvSpPr/>
            <p:nvPr/>
          </p:nvSpPr>
          <p:spPr>
            <a:xfrm>
              <a:off x="5410080" y="4448160"/>
              <a:ext cx="35053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26,22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26,22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96080" y="315288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96080" y="566748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10080" y="1962000"/>
              <a:ext cx="3505320" cy="16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89,778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89,778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410080" y="2085840"/>
            <a:ext cx="3353040" cy="164808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chiner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444816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iprocal Approach to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320" y="1324080"/>
            <a:ext cx="3192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ort Departmen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57800" y="1324080"/>
            <a:ext cx="365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duction Department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857240"/>
            <a:ext cx="2514600" cy="157176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irect costs   $600,00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4343400"/>
            <a:ext cx="2514600" cy="19051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irect costs  $116,00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42 - 54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43200" y="2590920"/>
            <a:ext cx="2666880" cy="2361960"/>
            <a:chOff x="2743200" y="2590920"/>
            <a:chExt cx="2666880" cy="2361960"/>
          </a:xfrm>
        </p:grpSpPr>
        <p:sp>
          <p:nvSpPr>
            <p:cNvPr id="115" name=""/>
            <p:cNvSpPr/>
            <p:nvPr/>
          </p:nvSpPr>
          <p:spPr>
            <a:xfrm>
              <a:off x="2743200" y="25909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3048120"/>
              <a:ext cx="2666880" cy="1904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71800" y="2619360"/>
              <a:ext cx="1752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87,225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12,04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743200" y="3200400"/>
            <a:ext cx="2666880" cy="2362320"/>
            <a:chOff x="2743200" y="3200400"/>
            <a:chExt cx="2666880" cy="2362320"/>
          </a:xfrm>
        </p:grpSpPr>
        <p:sp>
          <p:nvSpPr>
            <p:cNvPr id="119" name=""/>
            <p:cNvSpPr/>
            <p:nvPr/>
          </p:nvSpPr>
          <p:spPr>
            <a:xfrm>
              <a:off x="2743200" y="55627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743200" y="3200400"/>
              <a:ext cx="2590920" cy="1828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95480" y="4676760"/>
              <a:ext cx="1752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92,65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4,08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76320" y="1828800"/>
            <a:ext cx="3809880" cy="4419720"/>
            <a:chOff x="76320" y="1828800"/>
            <a:chExt cx="3809880" cy="4419720"/>
          </a:xfrm>
        </p:grpSpPr>
        <p:sp>
          <p:nvSpPr>
            <p:cNvPr id="123" name=""/>
            <p:cNvSpPr/>
            <p:nvPr/>
          </p:nvSpPr>
          <p:spPr>
            <a:xfrm>
              <a:off x="2438280" y="3429000"/>
              <a:ext cx="0" cy="9144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3720" y="3762360"/>
              <a:ext cx="1752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4,816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9480" y="3429000"/>
              <a:ext cx="0" cy="9144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8600" y="3762360"/>
              <a:ext cx="1752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4,08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320" y="1828800"/>
              <a:ext cx="281916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Allocated costs $24,082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320" y="4343400"/>
              <a:ext cx="26668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+ Allocated cos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124,816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410080" y="2009880"/>
            <a:ext cx="3733920" cy="4086000"/>
            <a:chOff x="5410080" y="2009880"/>
            <a:chExt cx="3733920" cy="4086000"/>
          </a:xfrm>
        </p:grpSpPr>
        <p:sp>
          <p:nvSpPr>
            <p:cNvPr id="130" name=""/>
            <p:cNvSpPr/>
            <p:nvPr/>
          </p:nvSpPr>
          <p:spPr>
            <a:xfrm>
              <a:off x="5410080" y="200988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79,877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79,877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10080" y="444816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36,123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36,123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20120" y="5638680"/>
              <a:ext cx="9144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0120" y="3200400"/>
              <a:ext cx="9144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cation of Common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45 - 5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mon costs are costs of operating a facility, operation, activity area, or like cost object that is shared by two or more us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-Alone Cost Allocation Metho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mmon costs on the basis of each user’s percentage of the total of the individual stand-alon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mental Cost Allocation Metho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mmon costs in order beginning with the primary user and then proceeding to secondary (incremental) us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01:31:04Z</dcterms:created>
  <dc:creator>User</dc:creator>
  <dc:description/>
  <dc:language>en-US</dc:language>
  <cp:lastModifiedBy>John Moore</cp:lastModifiedBy>
  <cp:lastPrinted>1999-06-04T23:13:26Z</cp:lastPrinted>
  <dcterms:modified xsi:type="dcterms:W3CDTF">2003-03-22T13:19:23Z</dcterms:modified>
  <cp:revision>16</cp:revision>
  <dc:subject/>
  <dc:title>Cost Allocation</dc:title>
</cp:coreProperties>
</file>